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2141-06D4-4ECB-860F-81BFE398D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1877-32D2-40E5-93E1-8C8212ED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C6AB-631F-44E9-96F2-C4718AE54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C292-07C4-406F-B34D-46730A8B6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9B8D-8B8F-442F-AD88-C5A143BF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3608-BB3E-4CAE-8E68-D4A6093B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6271-8105-44F6-8BEE-C6670186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FBAF-ACE6-41EA-AD35-D82E37F6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73E9-4647-4F70-9A96-37B66E02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B35A-36B3-47CF-900F-D5D72590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6623-37E1-4B17-8470-ED30D463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EE65-5213-4BBE-9BBC-66D9731C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2C23-B585-44D4-900C-F17BB3318B0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8589960" cy="86364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27160" y="1989000"/>
            <a:ext cx="868968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ذا استنفرنا الإمام للجها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ذا هجم الكفارعلى بلد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ذا التقى الصفان وتقابل الزحفا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9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8424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227160" y="3949560"/>
            <a:ext cx="86896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في الجهاد في سبيل الله خير كثير  للمسلم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3"/>
          <a:stretch/>
        </p:blipFill>
        <p:spPr>
          <a:xfrm>
            <a:off x="4140360" y="981000"/>
            <a:ext cx="4546440" cy="520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"/>
          <p:cNvPicPr/>
          <p:nvPr/>
        </p:nvPicPr>
        <p:blipFill>
          <a:blip r:embed="rId4"/>
          <a:stretch/>
        </p:blipFill>
        <p:spPr>
          <a:xfrm>
            <a:off x="1055520" y="3238560"/>
            <a:ext cx="7859880" cy="622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201600" y="1557360"/>
            <a:ext cx="86914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علاء كلمة الله تعالى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صر المظلومين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ردّ العدوان وحفظ الإسلام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49"/>
          <a:stretch/>
        </p:blipFill>
        <p:spPr>
          <a:xfrm>
            <a:off x="250920" y="907920"/>
            <a:ext cx="864216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3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8613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223920" y="981000"/>
            <a:ext cx="8696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67384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250920" y="2116080"/>
            <a:ext cx="8642160" cy="448164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50920" y="41083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عسر واليس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250920" y="457524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سفراً قريبا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50133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لجهاد والقت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55468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عتذر عن الخرو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85104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2400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تحي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جهاد مرتبط بإذن :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م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06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تخلف عن الجهاد الواجب والاعتذار بأعذار كاذبة علامة من علام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فا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278136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اتب الله رسوله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 قوله تعالى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إذنه لمن استأذنه في القعود قبل أن يتبين الصادق منهم في عذره من الكاذب في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3716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بشر لا يعلم الغيب إل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إعلام الله 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36572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صفات المؤمن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مبادرة إلى الأعمال الصالح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494172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عظم الأعمال الصالح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جهاد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51664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شك في العقيد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خطي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2"/>
          <a:stretch/>
        </p:blipFill>
        <p:spPr>
          <a:xfrm>
            <a:off x="3262320" y="2708280"/>
            <a:ext cx="2822400" cy="54144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08000" y="602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شك في العقيد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حيرة والترد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3"/>
          <a:stretch/>
        </p:blipFill>
        <p:spPr>
          <a:xfrm>
            <a:off x="298440" y="1125360"/>
            <a:ext cx="8545680" cy="7192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27160" y="2004840"/>
            <a:ext cx="8689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صفات المؤمنين المبادرة إلى الأعمال الصالحة والبعد عن التردد والح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0T19:38:18Z</dcterms:modified>
  <cp:revision>1811</cp:revision>
  <dc:subject/>
  <dc:title>عرض تقديمي في PowerPoint</dc:title>
</cp:coreProperties>
</file>